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16A-BEB3-433E-91D3-E4EF1419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5A3-7299-41D1-8247-C2E052B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4C3-BAAF-433D-80D4-D015AC4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2CE-72B5-4F5F-A744-7EA76DA0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57C-18DA-4E7C-9FDD-059FE62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62E-99AE-4FDD-A02B-B099971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000-9C36-4026-BEE1-2912D78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749-BF28-4267-842A-8C73E951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143-0DC5-49FC-8918-1753959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D82-3713-4AA9-B5B6-77ADE57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F31-A95B-472C-A371-D9E8B7E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9F7-E255-49CD-A55B-6D7F304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841-A4F8-40E9-A19D-B19C438933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77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Las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os últimos años, el uso de las drogas ha aumentado* considerablemente en Esp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ña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Las drogas son importadas desde Colombia y La República Dominic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Vocabular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umentad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o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9080" y="3205080"/>
            <a:ext cx="2444760" cy="34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011480" cy="326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52600" y="3738600"/>
            <a:ext cx="3657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2600" y="3738600"/>
            <a:ext cx="4800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8900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dad promedia* de inicio para empezar* a drogarse ha disminuido. Los jóvene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 entre quince y veinticuatro años  tienen fácil aceso a las drogas. Hay muchos tipos de drogas disponibles*, por ejemplo cocaína, cannabis y éxtasis. El consumo privado de Cannabis es legal en Españ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ocabulario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dad promed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verag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ez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onib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4365720"/>
            <a:ext cx="4343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260280"/>
            <a:ext cx="739152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os Hech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*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lombia representa el 54% del cultivo de coca a nivel*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mayor* parte de la cocaína se consume en América especialmente los Estad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 Europa hay 3,5 milliones de usarios dr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drid es el principal punto de entrada a Europa de coca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ambién, es el pais donde más se toma en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ocabulario: los hecho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niv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y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re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51:59Z</dcterms:created>
  <dc:creator>default user</dc:creator>
  <dc:description/>
  <dc:language>en-US</dc:language>
  <cp:lastModifiedBy>Owner1</cp:lastModifiedBy>
  <dcterms:modified xsi:type="dcterms:W3CDTF">2008-10-19T15:18:25Z</dcterms:modified>
  <cp:revision>7</cp:revision>
  <dc:subject/>
  <dc:title>PowerPoint Presentation</dc:title>
</cp:coreProperties>
</file>